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8354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46760" cy="37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cdb3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835080" y="9410760"/>
            <a:ext cx="292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0419D-87DB-4DFE-A76F-1BA089707A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3835440" y="9410760"/>
            <a:ext cx="292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B384C-79DB-428C-98E2-F067813B92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383544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77E75-54C7-4428-B8E5-CB87AFB88D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4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3835440" y="9410760"/>
            <a:ext cx="292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500E9-D784-49F7-8296-F24155D5CA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383544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D0257-4A06-4706-AFDB-DE1E591D4B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4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3835440" y="9410760"/>
            <a:ext cx="292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4A9F3-CEC7-4382-8371-5B79A3DA0A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3835440" y="941076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E50B4-8129-4346-A3EE-0DBFF2E0D8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4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3835440" y="9410760"/>
            <a:ext cx="292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14E94-B8BA-4DE4-A7C5-3007EC44B6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40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AA7A-AEAB-4D41-BD58-BCFFC3700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6334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3894840"/>
            <a:ext cx="6334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8436-1A50-40F0-983B-FAE0BF797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38948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7000" y="38948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A978-907D-48A7-8B5E-586342917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2880" y="18284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4880" y="18284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38948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2880" y="38948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4880" y="38948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BEA8-1676-4671-8546-4BFA47714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9777-C77F-44DC-974C-F12802BF1F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1828440"/>
            <a:ext cx="6334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B99A-A0B8-4C58-A4B9-3AAC35A204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6334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A846-4A5E-43F9-B272-A7F6E6678C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8CC1-FC97-410F-9C61-0D68918D9D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8142-543C-4C2A-823B-02E6481377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482760"/>
            <a:ext cx="602928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A7D2-E8EA-4BFF-9C13-3BF6700DDE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38948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0081-2579-4492-9C95-86329ADC6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828440"/>
            <a:ext cx="6334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0BAB-A3D6-49D0-AA36-29F77AEB8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7000" y="38948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402B-D088-41C3-9DF1-179F39CA16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3894840"/>
            <a:ext cx="6334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394C-7E7D-46E7-9C6A-FA7D067FAF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6334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3894840"/>
            <a:ext cx="6334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D9B0-38E7-4A3E-AB39-B7A1E8BA3F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38948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7000" y="38948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9780-8BD1-4918-BA20-7A43D235E6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2880" y="18284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54880" y="18284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38948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2880" y="38948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54880" y="3894840"/>
            <a:ext cx="20394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C0B8-C428-489D-B86E-EF6751286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6334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0D88-3130-4313-878B-A2D3FA1B4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6000-36E4-43DE-BB66-122E151CA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3B6A-9FA4-4C43-8993-7D05A7F25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482760"/>
            <a:ext cx="602928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4F53-BD47-4DD0-AAEB-8223F25AB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38948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F8A9-908F-444F-8AF9-C40508767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7000" y="38948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C994-51E0-49FD-821A-C523C457D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7000" y="1828440"/>
            <a:ext cx="309096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3894840"/>
            <a:ext cx="6334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63B7-093C-4E81-874D-E06E0D830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371240" y="1828440"/>
            <a:ext cx="6334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305920" y="6478560"/>
            <a:ext cx="712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87E98-E6E6-47CB-BD83-B7DEFFA38E7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cdb3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5843520"/>
            <a:ext cx="1809720" cy="1014480"/>
          </a:xfrm>
          <a:prstGeom prst="rect">
            <a:avLst/>
          </a:prstGeom>
          <a:ln w="0">
            <a:noFill/>
          </a:ln>
        </p:spPr>
      </p:pic>
      <p:sp>
        <p:nvSpPr>
          <p:cNvPr id="5" name="Rectangle 6"/>
          <p:cNvSpPr/>
          <p:nvPr/>
        </p:nvSpPr>
        <p:spPr>
          <a:xfrm>
            <a:off x="3476520" y="-122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7696080" y="380880"/>
            <a:ext cx="129564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5843520"/>
            <a:ext cx="180972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7696080" y="3808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371240" y="1828440"/>
            <a:ext cx="6334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85014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850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371600" y="482760"/>
            <a:ext cx="60292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cdb3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db3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305920" y="6494040"/>
            <a:ext cx="71280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b3b3b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174E46-54AA-4DEB-A3C9-00652A20E862}" type="slidenum">
              <a:rPr b="0" lang="fr-FR" sz="18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8305920" y="6494400"/>
            <a:ext cx="718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0DA33-984E-46DD-8225-64998655B3F3}" type="slidenum">
              <a:rPr b="0" lang="fr-FR" sz="18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011240" y="1714680"/>
            <a:ext cx="687384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c85014"/>
                </a:solidFill>
                <a:latin typeface="Arial"/>
                <a:ea typeface="ヒラギノ角ゴ Pro W3"/>
              </a:rPr>
              <a:t>Quelques réalités fédér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c85014"/>
                </a:solidFill>
                <a:latin typeface="Arial"/>
                <a:ea typeface="ヒラギノ角ゴ Pro W3"/>
              </a:rPr>
              <a:t>« Indicateurs financiers des organes des mouvements sportifs par le Ministère chargé des Sports 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c85014"/>
                </a:solidFill>
                <a:latin typeface="Arial"/>
                <a:ea typeface="ヒラギノ角ゴ Pro W3"/>
              </a:rPr>
              <a:t>(Bilan  20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8305920" y="6518160"/>
            <a:ext cx="718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FE719-91F5-4CB1-8AA7-58BB72D28069}" type="slidenum">
              <a:rPr b="0" lang="fr-FR" sz="18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417680"/>
            <a:ext cx="8354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c85014"/>
                </a:solidFill>
                <a:latin typeface="Arial"/>
              </a:rPr>
              <a:t>1/  Le taux de soutien du Ministère à la 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Montant de la CO (convention d’objectifs) sur Total des produits (compte 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de résult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 u="sng">
                <a:solidFill>
                  <a:srgbClr val="c00000"/>
                </a:solidFill>
                <a:uFillTx/>
                <a:latin typeface="Arial"/>
              </a:rPr>
              <a:t>Critères d’é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- Il n’y en a pas « d’officiels ». Critères laissés lib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c85014"/>
                </a:solidFill>
                <a:uFillTx/>
                <a:latin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    </a:t>
            </a:r>
            <a:r>
              <a:rPr b="0" lang="fr-FR" sz="1800" spc="-1" strike="noStrike" u="sng">
                <a:solidFill>
                  <a:srgbClr val="c85014"/>
                </a:solidFill>
                <a:uFillTx/>
                <a:latin typeface="Arial"/>
              </a:rPr>
              <a:t>195.500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1.166.3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Le taux de soutien du Ministère est de 1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305920" y="6518160"/>
            <a:ext cx="718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590B1-D058-4AAF-842E-CC70BBED0964}" type="slidenum">
              <a:rPr b="0" lang="fr-FR" sz="18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95280" y="1417680"/>
            <a:ext cx="8354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c85014"/>
                </a:solidFill>
                <a:latin typeface="Arial"/>
              </a:rPr>
              <a:t>2/  Le taux de dépendance de la FFS vis-à-vis du </a:t>
            </a:r>
            <a:r>
              <a:rPr b="1" lang="fr-FR" sz="24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c85014"/>
                </a:solidFill>
                <a:latin typeface="Arial"/>
              </a:rPr>
              <a:t>                  </a:t>
            </a:r>
            <a:r>
              <a:rPr b="1" lang="fr-FR" sz="24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c85014"/>
                </a:solidFill>
                <a:latin typeface="Arial"/>
              </a:rPr>
              <a:t>Ministè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Montant de la CO (</a:t>
            </a:r>
            <a:r>
              <a:rPr b="0" lang="fr-FR" sz="1400" spc="-1" strike="noStrike">
                <a:solidFill>
                  <a:srgbClr val="c85014"/>
                </a:solidFill>
                <a:latin typeface="Arial"/>
              </a:rPr>
              <a:t>convention d’objectif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) + Valorisation DTN sur Total des produits 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(</a:t>
            </a:r>
            <a:r>
              <a:rPr b="0" lang="fr-FR" sz="1400" spc="-1" strike="noStrike">
                <a:solidFill>
                  <a:srgbClr val="c85014"/>
                </a:solidFill>
                <a:latin typeface="Arial"/>
              </a:rPr>
              <a:t>compte de résultat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)+ Valorisation D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lang="fr-FR" sz="1800" spc="-1" strike="noStrike" u="sng">
                <a:solidFill>
                  <a:srgbClr val="c00000"/>
                </a:solidFill>
                <a:uFillTx/>
                <a:latin typeface="Arial"/>
              </a:rPr>
              <a:t>Critères d’é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- il n’y en a pas « d’officiels ». Critères laissés lib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c85014"/>
                </a:solidFill>
                <a:latin typeface="Arial"/>
              </a:rPr>
              <a:t>  </a:t>
            </a:r>
            <a:r>
              <a:rPr b="0" i="1" lang="fr-FR" sz="1400" spc="-1" strike="noStrike">
                <a:solidFill>
                  <a:srgbClr val="c85014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c85014"/>
                </a:solidFill>
                <a:latin typeface="Arial"/>
              </a:rPr>
              <a:t>Nota: Valorisation DTN= salaires 1DTN+4CT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c85014"/>
                </a:solidFill>
                <a:uFillTx/>
                <a:latin typeface="Arial"/>
              </a:rPr>
              <a:t>	</a:t>
            </a:r>
            <a:r>
              <a:rPr b="1" lang="fr-FR" sz="1800" spc="-1" strike="noStrike">
                <a:solidFill>
                  <a:srgbClr val="c85014"/>
                </a:solidFill>
                <a:latin typeface="Arial"/>
              </a:rPr>
              <a:t>    </a:t>
            </a:r>
            <a:r>
              <a:rPr b="0" lang="fr-FR" sz="1800" spc="-1" strike="noStrike" u="sng">
                <a:solidFill>
                  <a:srgbClr val="c85014"/>
                </a:solidFill>
                <a:uFillTx/>
                <a:latin typeface="Arial"/>
              </a:rPr>
              <a:t>548.150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</a:rPr>
              <a:t>1.518.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Le taux de dépendance de la FFS est de 3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371600" y="482760"/>
            <a:ext cx="60357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95280" y="1484280"/>
            <a:ext cx="791676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c85014"/>
                </a:solidFill>
                <a:latin typeface="Arial"/>
                <a:ea typeface="Arial"/>
              </a:rPr>
              <a:t>3/ La solidité financière de la 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c85014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  <a:ea typeface="Arial"/>
              </a:rPr>
              <a:t>Fonds propres sur Total bil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c85014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 u="sng">
                <a:solidFill>
                  <a:srgbClr val="c85014"/>
                </a:solidFill>
                <a:uFillTx/>
                <a:latin typeface="Arial"/>
                <a:ea typeface="Arial"/>
              </a:rPr>
              <a:t>Critères d’é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85014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  <a:ea typeface="Arial"/>
              </a:rPr>
              <a:t>- s’il est entre 0 et 10% l’association est réputée frag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85014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c85014"/>
                </a:solidFill>
                <a:latin typeface="Arial"/>
                <a:ea typeface="Arial"/>
              </a:rPr>
              <a:t>- s’il est négatif, l’association est réputée dégrad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8b9d"/>
              </a:buClr>
              <a:buFont typeface="Arial"/>
              <a:buChar char="-"/>
              <a:tabLst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 u="sng">
                <a:solidFill>
                  <a:srgbClr val="c85014"/>
                </a:solidFill>
                <a:uFillTx/>
                <a:latin typeface="Arial"/>
                <a:ea typeface="Arial"/>
              </a:rPr>
              <a:t>244.0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85014"/>
                </a:solidFill>
                <a:latin typeface="Arial"/>
                <a:ea typeface="Arial"/>
              </a:rPr>
              <a:t>971.2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8b9d"/>
              </a:buClr>
              <a:buFont typeface="Arial"/>
              <a:buChar char="-"/>
              <a:tabLst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Le ratio de la FFS est de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5504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05920" y="6518160"/>
            <a:ext cx="718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F325A-9319-4A7C-A2D4-07701C20A120}" type="slidenum">
              <a:rPr b="0" lang="fr-FR" sz="18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9:25:37Z</dcterms:created>
  <dc:creator>Studio i10</dc:creator>
  <dc:description/>
  <dc:language>en-US</dc:language>
  <cp:lastModifiedBy>test</cp:lastModifiedBy>
  <dcterms:modified xsi:type="dcterms:W3CDTF">2018-12-21T15:28:30Z</dcterms:modified>
  <cp:revision>237</cp:revision>
  <dc:subject/>
  <dc:title>Présentation PowerPoint</dc:title>
</cp:coreProperties>
</file>